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hammer.wav" ContentType="audio/x-wav"/>
  <Override PartName="/ppt/media/applause.wav" ContentType="audio/x-wav"/>
  <Override PartName="/ppt/media/image5.wmf" ContentType="image/x-wmf"/>
  <Override PartName="/ppt/media/image10.wmf" ContentType="image/x-wmf"/>
  <Override PartName="/ppt/media/image7.wmf" ContentType="image/x-wmf"/>
  <Override PartName="/ppt/media/image4.gif" ContentType="image/gif"/>
  <Override PartName="/ppt/media/image1.jpeg" ContentType="image/jpeg"/>
  <Override PartName="/ppt/media/image15.wmf" ContentType="image/x-wmf"/>
  <Override PartName="/ppt/media/image11.wmf" ContentType="image/x-wmf"/>
  <Override PartName="/ppt/media/clap.wav" ContentType="audio/x-wav"/>
  <Override PartName="/ppt/media/image2.wmf" ContentType="image/x-wmf"/>
  <Override PartName="/ppt/media/image21.gif" ContentType="image/gif"/>
  <Override PartName="/ppt/media/image12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3.wmf" ContentType="image/x-wmf"/>
  <Override PartName="/ppt/media/image14.wmf" ContentType="image/x-wmf"/>
  <Override PartName="/ppt/media/image3.gif" ContentType="image/gi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3402-F722-452C-BE20-8BA9215C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0FA2-8CA8-44DF-9966-B8CFE39C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1C97-4EC1-4937-B15F-3D6530E6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1DAD-8C8D-457E-92E4-33E7E41E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9617-A0BF-4A27-B722-47616E03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D13C-2C41-4367-A28D-AC3614E2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DCB2-47A2-40A6-A57F-A9AF5334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7E2B-11BC-41A5-A287-E66354B2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8C49-CD3C-4329-A8A7-37C32DEE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1CF-9622-4718-A150-E2FFC167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FBC5-5AD8-4564-B868-2ED898F3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F8F9-AE4A-4133-8CAB-B86BFFFB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6EE8-8371-4D29-AC17-9BBAA907E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gif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" Target="slide4.xml"/><Relationship Id="rId5" Type="http://schemas.openxmlformats.org/officeDocument/2006/relationships/image" Target="../media/image4.gif"/><Relationship Id="rId6" Type="http://schemas.openxmlformats.org/officeDocument/2006/relationships/slide" Target="slide4.xml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wmf"/><Relationship Id="rId3" Type="http://schemas.openxmlformats.org/officeDocument/2006/relationships/slide" Target="slide7.xml"/><Relationship Id="rId4" Type="http://schemas.openxmlformats.org/officeDocument/2006/relationships/image" Target="../media/image7.wmf"/><Relationship Id="rId5" Type="http://schemas.openxmlformats.org/officeDocument/2006/relationships/slide" Target="slide7.xml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9.xml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" Target="slide10.xml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j0201748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Kristen ITC"/>
              </a:rPr>
              <a:t>¡Vamos a practicar con nuestras rima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j0162916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3">
            <a:hlinkClick r:id="" action="ppaction://hlinkshowjump?jump=nextslide"/>
          </p:cNvPr>
          <p:cNvSpPr/>
          <p:nvPr/>
        </p:nvSpPr>
        <p:spPr>
          <a:xfrm>
            <a:off x="3200400" y="2286000"/>
            <a:ext cx="3352680" cy="838080"/>
          </a:xfrm>
          <a:custGeom>
            <a:avLst/>
            <a:gdLst>
              <a:gd name="textAreaLeft" fmla="*/ 54000 w 3352680"/>
              <a:gd name="textAreaRight" fmla="*/ 3298680 w 3352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6381" h="21600">
                <a:moveTo>
                  <a:pt x="0" y="0"/>
                </a:moveTo>
                <a:lnTo>
                  <a:pt x="86381" y="0"/>
                </a:lnTo>
                <a:lnTo>
                  <a:pt x="86381" y="21600"/>
                </a:lnTo>
                <a:lnTo>
                  <a:pt x="0" y="21600"/>
                </a:lnTo>
                <a:close/>
              </a:path>
              <a:path fill="lightenLess" w="86381" h="21600">
                <a:moveTo>
                  <a:pt x="0" y="0"/>
                </a:moveTo>
                <a:lnTo>
                  <a:pt x="86381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1" h="21600">
                <a:moveTo>
                  <a:pt x="86381" y="0"/>
                </a:moveTo>
                <a:lnTo>
                  <a:pt x="86381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1" h="21600">
                <a:moveTo>
                  <a:pt x="8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16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Kristen ITC"/>
              </a:rPr>
              <a:t>¡Bie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BK00031_"/>
          <p:cNvPicPr/>
          <p:nvPr/>
        </p:nvPicPr>
        <p:blipFill>
          <a:blip r:embed="rId1"/>
          <a:stretch/>
        </p:blipFill>
        <p:spPr>
          <a:xfrm>
            <a:off x="0" y="0"/>
            <a:ext cx="9144000" cy="64706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90760" y="1066320"/>
            <a:ext cx="144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ani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HH00967_"/>
          <p:cNvPicPr/>
          <p:nvPr/>
        </p:nvPicPr>
        <p:blipFill>
          <a:blip r:embed="rId2"/>
          <a:stretch/>
        </p:blipFill>
        <p:spPr>
          <a:xfrm>
            <a:off x="1981080" y="1143000"/>
            <a:ext cx="1981440" cy="12398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1523880" y="2362320"/>
            <a:ext cx="60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Kristen ITC"/>
              </a:rPr>
              <a:t>¿Cuál de estas palabras rima con anill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181480" y="48769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astri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8" descr="j0139539"/>
          <p:cNvPicPr/>
          <p:nvPr/>
        </p:nvPicPr>
        <p:blipFill>
          <a:blip r:embed="rId3"/>
          <a:stretch/>
        </p:blipFill>
        <p:spPr>
          <a:xfrm>
            <a:off x="1981080" y="3352680"/>
            <a:ext cx="1177920" cy="15811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2"/>
          <p:cNvSpPr/>
          <p:nvPr/>
        </p:nvSpPr>
        <p:spPr>
          <a:xfrm>
            <a:off x="1905120" y="4800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3" descr="HH02198_"/>
          <p:cNvPicPr/>
          <p:nvPr/>
        </p:nvPicPr>
        <p:blipFill>
          <a:blip r:embed="rId4"/>
          <a:stretch/>
        </p:blipFill>
        <p:spPr>
          <a:xfrm>
            <a:off x="5638680" y="3048120"/>
            <a:ext cx="146376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j0162916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3">
            <a:hlinkClick r:id="" action="ppaction://hlinkshowjump?jump=previousslide"/>
          </p:cNvPr>
          <p:cNvSpPr/>
          <p:nvPr/>
        </p:nvSpPr>
        <p:spPr>
          <a:xfrm>
            <a:off x="2209680" y="2286000"/>
            <a:ext cx="5639040" cy="838080"/>
          </a:xfrm>
          <a:custGeom>
            <a:avLst/>
            <a:gdLst>
              <a:gd name="textAreaLeft" fmla="*/ 54000 w 5639040"/>
              <a:gd name="textAreaRight" fmla="*/ 5585040 w 5639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45283" h="21600">
                <a:moveTo>
                  <a:pt x="0" y="0"/>
                </a:moveTo>
                <a:lnTo>
                  <a:pt x="145283" y="0"/>
                </a:lnTo>
                <a:lnTo>
                  <a:pt x="145283" y="21600"/>
                </a:lnTo>
                <a:lnTo>
                  <a:pt x="0" y="21600"/>
                </a:lnTo>
                <a:close/>
              </a:path>
              <a:path fill="lightenLess" w="145283" h="21600">
                <a:moveTo>
                  <a:pt x="0" y="0"/>
                </a:moveTo>
                <a:lnTo>
                  <a:pt x="145283" y="0"/>
                </a:lnTo>
                <a:lnTo>
                  <a:pt x="143883" y="1400"/>
                </a:lnTo>
                <a:lnTo>
                  <a:pt x="1400" y="1400"/>
                </a:lnTo>
                <a:close/>
              </a:path>
              <a:path fill="darken" w="145283" h="21600">
                <a:moveTo>
                  <a:pt x="145283" y="0"/>
                </a:moveTo>
                <a:lnTo>
                  <a:pt x="145283" y="21600"/>
                </a:lnTo>
                <a:lnTo>
                  <a:pt x="143883" y="20200"/>
                </a:lnTo>
                <a:lnTo>
                  <a:pt x="143883" y="1400"/>
                </a:lnTo>
                <a:close/>
              </a:path>
              <a:path fill="darkenLess" w="145283" h="21600">
                <a:moveTo>
                  <a:pt x="145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3883" y="20200"/>
                </a:lnTo>
                <a:close/>
              </a:path>
              <a:path fill="lighten" w="145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16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Kristen ITC"/>
              </a:rPr>
              <a:t>¡Vuelve a intentarl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j0162916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">
            <a:hlinkClick r:id="" action="ppaction://hlinkshowjump?jump=nextslide"/>
          </p:cNvPr>
          <p:cNvSpPr/>
          <p:nvPr/>
        </p:nvSpPr>
        <p:spPr>
          <a:xfrm>
            <a:off x="3200400" y="2286000"/>
            <a:ext cx="3352680" cy="838080"/>
          </a:xfrm>
          <a:custGeom>
            <a:avLst/>
            <a:gdLst>
              <a:gd name="textAreaLeft" fmla="*/ 54000 w 3352680"/>
              <a:gd name="textAreaRight" fmla="*/ 3298680 w 3352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6381" h="21600">
                <a:moveTo>
                  <a:pt x="0" y="0"/>
                </a:moveTo>
                <a:lnTo>
                  <a:pt x="86381" y="0"/>
                </a:lnTo>
                <a:lnTo>
                  <a:pt x="86381" y="21600"/>
                </a:lnTo>
                <a:lnTo>
                  <a:pt x="0" y="21600"/>
                </a:lnTo>
                <a:close/>
              </a:path>
              <a:path fill="lightenLess" w="86381" h="21600">
                <a:moveTo>
                  <a:pt x="0" y="0"/>
                </a:moveTo>
                <a:lnTo>
                  <a:pt x="86381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1" h="21600">
                <a:moveTo>
                  <a:pt x="86381" y="0"/>
                </a:moveTo>
                <a:lnTo>
                  <a:pt x="86381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1" h="21600">
                <a:moveTo>
                  <a:pt x="8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16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Kristen ITC"/>
              </a:rPr>
              <a:t>¡Bie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Kristen IT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Kristen ITC"/>
            </a:endParaRPr>
          </a:p>
        </p:txBody>
      </p:sp>
      <p:pic>
        <p:nvPicPr>
          <p:cNvPr id="89" name="Picture 4" descr="j0162916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4038480" y="10666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371600" y="228600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Kristen ITC"/>
              </a:rPr>
              <a:t>¿Cuál de estas palabras rima con fl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8" descr="j0193266"/>
          <p:cNvPicPr/>
          <p:nvPr/>
        </p:nvPicPr>
        <p:blipFill>
          <a:blip r:embed="rId2"/>
          <a:stretch/>
        </p:blipFill>
        <p:spPr>
          <a:xfrm>
            <a:off x="1600200" y="3429000"/>
            <a:ext cx="2259000" cy="11890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571500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1828800" y="45720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d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2" descr="MCj04077160000[1]"/>
          <p:cNvPicPr/>
          <p:nvPr/>
        </p:nvPicPr>
        <p:blipFill>
          <a:blip r:embed="rId3"/>
          <a:stretch/>
        </p:blipFill>
        <p:spPr>
          <a:xfrm>
            <a:off x="1828800" y="914400"/>
            <a:ext cx="1254240" cy="1295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MCj04061720000[1]"/>
          <p:cNvPicPr/>
          <p:nvPr/>
        </p:nvPicPr>
        <p:blipFill>
          <a:blip r:embed="rId4"/>
          <a:stretch/>
        </p:blipFill>
        <p:spPr>
          <a:xfrm>
            <a:off x="5638680" y="3352680"/>
            <a:ext cx="1430280" cy="14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j0162916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3">
            <a:hlinkClick r:id="" action="ppaction://hlinkshowjump?jump=previousslide"/>
          </p:cNvPr>
          <p:cNvSpPr/>
          <p:nvPr/>
        </p:nvSpPr>
        <p:spPr>
          <a:xfrm>
            <a:off x="2209680" y="2286000"/>
            <a:ext cx="5639040" cy="838080"/>
          </a:xfrm>
          <a:custGeom>
            <a:avLst/>
            <a:gdLst>
              <a:gd name="textAreaLeft" fmla="*/ 54000 w 5639040"/>
              <a:gd name="textAreaRight" fmla="*/ 5585040 w 5639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45283" h="21600">
                <a:moveTo>
                  <a:pt x="0" y="0"/>
                </a:moveTo>
                <a:lnTo>
                  <a:pt x="145283" y="0"/>
                </a:lnTo>
                <a:lnTo>
                  <a:pt x="145283" y="21600"/>
                </a:lnTo>
                <a:lnTo>
                  <a:pt x="0" y="21600"/>
                </a:lnTo>
                <a:close/>
              </a:path>
              <a:path fill="lightenLess" w="145283" h="21600">
                <a:moveTo>
                  <a:pt x="0" y="0"/>
                </a:moveTo>
                <a:lnTo>
                  <a:pt x="145283" y="0"/>
                </a:lnTo>
                <a:lnTo>
                  <a:pt x="143883" y="1400"/>
                </a:lnTo>
                <a:lnTo>
                  <a:pt x="1400" y="1400"/>
                </a:lnTo>
                <a:close/>
              </a:path>
              <a:path fill="darken" w="145283" h="21600">
                <a:moveTo>
                  <a:pt x="145283" y="0"/>
                </a:moveTo>
                <a:lnTo>
                  <a:pt x="145283" y="21600"/>
                </a:lnTo>
                <a:lnTo>
                  <a:pt x="143883" y="20200"/>
                </a:lnTo>
                <a:lnTo>
                  <a:pt x="143883" y="1400"/>
                </a:lnTo>
                <a:close/>
              </a:path>
              <a:path fill="darkenLess" w="145283" h="21600">
                <a:moveTo>
                  <a:pt x="145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3883" y="20200"/>
                </a:lnTo>
                <a:close/>
              </a:path>
              <a:path fill="lighten" w="145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16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Kristen ITC"/>
              </a:rPr>
              <a:t>¡Vuelve a intentarl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j0162916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3">
            <a:hlinkClick r:id="" action="ppaction://hlinkshowjump?jump=nextslide"/>
          </p:cNvPr>
          <p:cNvSpPr/>
          <p:nvPr/>
        </p:nvSpPr>
        <p:spPr>
          <a:xfrm>
            <a:off x="3200400" y="2286000"/>
            <a:ext cx="3352680" cy="838080"/>
          </a:xfrm>
          <a:custGeom>
            <a:avLst/>
            <a:gdLst>
              <a:gd name="textAreaLeft" fmla="*/ 54000 w 3352680"/>
              <a:gd name="textAreaRight" fmla="*/ 3298680 w 3352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6381" h="21600">
                <a:moveTo>
                  <a:pt x="0" y="0"/>
                </a:moveTo>
                <a:lnTo>
                  <a:pt x="86381" y="0"/>
                </a:lnTo>
                <a:lnTo>
                  <a:pt x="86381" y="21600"/>
                </a:lnTo>
                <a:lnTo>
                  <a:pt x="0" y="21600"/>
                </a:lnTo>
                <a:close/>
              </a:path>
              <a:path fill="lightenLess" w="86381" h="21600">
                <a:moveTo>
                  <a:pt x="0" y="0"/>
                </a:moveTo>
                <a:lnTo>
                  <a:pt x="86381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1" h="21600">
                <a:moveTo>
                  <a:pt x="86381" y="0"/>
                </a:moveTo>
                <a:lnTo>
                  <a:pt x="86381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1" h="21600">
                <a:moveTo>
                  <a:pt x="8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16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Kristen ITC"/>
              </a:rPr>
              <a:t>¡Bie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Kristen ITC"/>
              </a:rPr>
              <a:t>You are finish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DD01837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1676520" y="19051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Kristen ITC"/>
              </a:rPr>
              <a:t>Otra buena rima…</a:t>
            </a: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6" descr="AG00457_"/>
          <p:cNvPicPr/>
          <p:nvPr/>
        </p:nvPicPr>
        <p:blipFill>
          <a:blip r:embed="rId2"/>
          <a:stretch/>
        </p:blipFill>
        <p:spPr>
          <a:xfrm>
            <a:off x="4876920" y="2590920"/>
            <a:ext cx="1996920" cy="2057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1447920" y="2514600"/>
            <a:ext cx="35049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Kristen ITC"/>
              </a:rPr>
              <a:t>Esta presentación se ha acabad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Kristen ITC"/>
              </a:rPr>
              <a:t>el otro le toc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Kristen ITC"/>
              </a:rPr>
              <a:t>al que está a mi l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rat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¿Cuál de estas imágenes rima con rat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corazón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  gato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5" descr="AG00052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15000" y="3200400"/>
            <a:ext cx="213372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AG00206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733920" y="838080"/>
            <a:ext cx="2022480" cy="789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SO01731_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590920" y="3276720"/>
            <a:ext cx="85860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j0162916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3">
            <a:hlinkClick r:id="" action="ppaction://hlinkshowjump?jump=previousslide"/>
          </p:cNvPr>
          <p:cNvSpPr/>
          <p:nvPr/>
        </p:nvSpPr>
        <p:spPr>
          <a:xfrm>
            <a:off x="2209680" y="2286000"/>
            <a:ext cx="5639040" cy="838080"/>
          </a:xfrm>
          <a:custGeom>
            <a:avLst/>
            <a:gdLst>
              <a:gd name="textAreaLeft" fmla="*/ 54000 w 5639040"/>
              <a:gd name="textAreaRight" fmla="*/ 5585040 w 5639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45283" h="21600">
                <a:moveTo>
                  <a:pt x="0" y="0"/>
                </a:moveTo>
                <a:lnTo>
                  <a:pt x="145283" y="0"/>
                </a:lnTo>
                <a:lnTo>
                  <a:pt x="145283" y="21600"/>
                </a:lnTo>
                <a:lnTo>
                  <a:pt x="0" y="21600"/>
                </a:lnTo>
                <a:close/>
              </a:path>
              <a:path fill="lightenLess" w="145283" h="21600">
                <a:moveTo>
                  <a:pt x="0" y="0"/>
                </a:moveTo>
                <a:lnTo>
                  <a:pt x="145283" y="0"/>
                </a:lnTo>
                <a:lnTo>
                  <a:pt x="143883" y="1400"/>
                </a:lnTo>
                <a:lnTo>
                  <a:pt x="1400" y="1400"/>
                </a:lnTo>
                <a:close/>
              </a:path>
              <a:path fill="darken" w="145283" h="21600">
                <a:moveTo>
                  <a:pt x="145283" y="0"/>
                </a:moveTo>
                <a:lnTo>
                  <a:pt x="145283" y="21600"/>
                </a:lnTo>
                <a:lnTo>
                  <a:pt x="143883" y="20200"/>
                </a:lnTo>
                <a:lnTo>
                  <a:pt x="143883" y="1400"/>
                </a:lnTo>
                <a:close/>
              </a:path>
              <a:path fill="darkenLess" w="145283" h="21600">
                <a:moveTo>
                  <a:pt x="145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3883" y="20200"/>
                </a:lnTo>
                <a:close/>
              </a:path>
              <a:path fill="lighten" w="145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16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Kristen ITC"/>
              </a:rPr>
              <a:t>¡</a:t>
            </a:r>
            <a:r>
              <a:rPr b="0" lang="es-ES" sz="4400" spc="-1" strike="noStrike">
                <a:solidFill>
                  <a:srgbClr val="ffff00"/>
                </a:solidFill>
                <a:latin typeface="Kristen ITC"/>
              </a:rPr>
              <a:t>Vuelve a intentarl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j0162916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3">
            <a:hlinkClick r:id="" action="ppaction://hlinkshowjump?jump=nextslide"/>
          </p:cNvPr>
          <p:cNvSpPr/>
          <p:nvPr/>
        </p:nvSpPr>
        <p:spPr>
          <a:xfrm>
            <a:off x="3200400" y="2286000"/>
            <a:ext cx="3352680" cy="838080"/>
          </a:xfrm>
          <a:custGeom>
            <a:avLst/>
            <a:gdLst>
              <a:gd name="textAreaLeft" fmla="*/ 54000 w 3352680"/>
              <a:gd name="textAreaRight" fmla="*/ 3298680 w 3352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6381" h="21600">
                <a:moveTo>
                  <a:pt x="0" y="0"/>
                </a:moveTo>
                <a:lnTo>
                  <a:pt x="86381" y="0"/>
                </a:lnTo>
                <a:lnTo>
                  <a:pt x="86381" y="21600"/>
                </a:lnTo>
                <a:lnTo>
                  <a:pt x="0" y="21600"/>
                </a:lnTo>
                <a:close/>
              </a:path>
              <a:path fill="lightenLess" w="86381" h="21600">
                <a:moveTo>
                  <a:pt x="0" y="0"/>
                </a:moveTo>
                <a:lnTo>
                  <a:pt x="86381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1" h="21600">
                <a:moveTo>
                  <a:pt x="86381" y="0"/>
                </a:moveTo>
                <a:lnTo>
                  <a:pt x="86381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1" h="21600">
                <a:moveTo>
                  <a:pt x="8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16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Kristen ITC"/>
              </a:rPr>
              <a:t>¡</a:t>
            </a:r>
            <a:r>
              <a:rPr b="0" lang="es-ES" sz="4400" spc="-1" strike="noStrike">
                <a:solidFill>
                  <a:srgbClr val="ffff00"/>
                </a:solidFill>
                <a:latin typeface="Kristen ITC"/>
              </a:rPr>
              <a:t>Bie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paya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Kristen ITC"/>
              </a:rPr>
              <a:t>¿Cuál de estas palabras rima con  paya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HH01660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5000" y="4343400"/>
            <a:ext cx="1676520" cy="1446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j008634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120" y="533520"/>
            <a:ext cx="1877760" cy="1877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914400" y="5791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flech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791320" y="59436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r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2" descr="MCj03050210000[1]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219320" y="4572000"/>
            <a:ext cx="15238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j0162916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3">
            <a:hlinkClick r:id="" action="ppaction://hlinkshowjump?jump=previousslide"/>
          </p:cNvPr>
          <p:cNvSpPr/>
          <p:nvPr/>
        </p:nvSpPr>
        <p:spPr>
          <a:xfrm>
            <a:off x="2209680" y="2286000"/>
            <a:ext cx="5639040" cy="838080"/>
          </a:xfrm>
          <a:custGeom>
            <a:avLst/>
            <a:gdLst>
              <a:gd name="textAreaLeft" fmla="*/ 54000 w 5639040"/>
              <a:gd name="textAreaRight" fmla="*/ 5585040 w 5639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45283" h="21600">
                <a:moveTo>
                  <a:pt x="0" y="0"/>
                </a:moveTo>
                <a:lnTo>
                  <a:pt x="145283" y="0"/>
                </a:lnTo>
                <a:lnTo>
                  <a:pt x="145283" y="21600"/>
                </a:lnTo>
                <a:lnTo>
                  <a:pt x="0" y="21600"/>
                </a:lnTo>
                <a:close/>
              </a:path>
              <a:path fill="lightenLess" w="145283" h="21600">
                <a:moveTo>
                  <a:pt x="0" y="0"/>
                </a:moveTo>
                <a:lnTo>
                  <a:pt x="145283" y="0"/>
                </a:lnTo>
                <a:lnTo>
                  <a:pt x="143883" y="1400"/>
                </a:lnTo>
                <a:lnTo>
                  <a:pt x="1400" y="1400"/>
                </a:lnTo>
                <a:close/>
              </a:path>
              <a:path fill="darken" w="145283" h="21600">
                <a:moveTo>
                  <a:pt x="145283" y="0"/>
                </a:moveTo>
                <a:lnTo>
                  <a:pt x="145283" y="21600"/>
                </a:lnTo>
                <a:lnTo>
                  <a:pt x="143883" y="20200"/>
                </a:lnTo>
                <a:lnTo>
                  <a:pt x="143883" y="1400"/>
                </a:lnTo>
                <a:close/>
              </a:path>
              <a:path fill="darkenLess" w="145283" h="21600">
                <a:moveTo>
                  <a:pt x="145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3883" y="20200"/>
                </a:lnTo>
                <a:close/>
              </a:path>
              <a:path fill="lighten" w="145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16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Kristen ITC"/>
              </a:rPr>
              <a:t>¡Vuelve a intentarl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j0162916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3">
            <a:hlinkClick r:id="" action="ppaction://hlinkshowjump?jump=nextslide"/>
          </p:cNvPr>
          <p:cNvSpPr/>
          <p:nvPr/>
        </p:nvSpPr>
        <p:spPr>
          <a:xfrm>
            <a:off x="3200400" y="2286000"/>
            <a:ext cx="3352680" cy="838080"/>
          </a:xfrm>
          <a:custGeom>
            <a:avLst/>
            <a:gdLst>
              <a:gd name="textAreaLeft" fmla="*/ 54000 w 3352680"/>
              <a:gd name="textAreaRight" fmla="*/ 3298680 w 3352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6381" h="21600">
                <a:moveTo>
                  <a:pt x="0" y="0"/>
                </a:moveTo>
                <a:lnTo>
                  <a:pt x="86381" y="0"/>
                </a:lnTo>
                <a:lnTo>
                  <a:pt x="86381" y="21600"/>
                </a:lnTo>
                <a:lnTo>
                  <a:pt x="0" y="21600"/>
                </a:lnTo>
                <a:close/>
              </a:path>
              <a:path fill="lightenLess" w="86381" h="21600">
                <a:moveTo>
                  <a:pt x="0" y="0"/>
                </a:moveTo>
                <a:lnTo>
                  <a:pt x="86381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1" h="21600">
                <a:moveTo>
                  <a:pt x="86381" y="0"/>
                </a:moveTo>
                <a:lnTo>
                  <a:pt x="86381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1" h="21600">
                <a:moveTo>
                  <a:pt x="8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16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Kristen ITC"/>
              </a:rPr>
              <a:t>¡Bie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42" descr="MCj0154050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Kristen ITC"/>
              </a:rPr>
              <a:t>no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Kristen ITC"/>
              </a:rPr>
              <a:t>¿Cuál de estas palabras rima con noc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257800" y="50292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1523880" y="4952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37" descr="MCj03616560000[1]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00200" y="3429000"/>
            <a:ext cx="1600200" cy="1490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9" descr="MCj02829660000[1]"/>
          <p:cNvPicPr/>
          <p:nvPr/>
        </p:nvPicPr>
        <p:blipFill>
          <a:blip r:embed="rId4"/>
          <a:stretch/>
        </p:blipFill>
        <p:spPr>
          <a:xfrm>
            <a:off x="1143000" y="685800"/>
            <a:ext cx="1382760" cy="1447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0" descr="MCj03105700000[1]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952880" y="3733920"/>
            <a:ext cx="18068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j0162916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3">
            <a:hlinkClick r:id="" action="ppaction://hlinkshowjump?jump=previousslide"/>
          </p:cNvPr>
          <p:cNvSpPr/>
          <p:nvPr/>
        </p:nvSpPr>
        <p:spPr>
          <a:xfrm>
            <a:off x="2209680" y="2286000"/>
            <a:ext cx="5639040" cy="838080"/>
          </a:xfrm>
          <a:custGeom>
            <a:avLst/>
            <a:gdLst>
              <a:gd name="textAreaLeft" fmla="*/ 54000 w 5639040"/>
              <a:gd name="textAreaRight" fmla="*/ 5585040 w 5639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45283" h="21600">
                <a:moveTo>
                  <a:pt x="0" y="0"/>
                </a:moveTo>
                <a:lnTo>
                  <a:pt x="145283" y="0"/>
                </a:lnTo>
                <a:lnTo>
                  <a:pt x="145283" y="21600"/>
                </a:lnTo>
                <a:lnTo>
                  <a:pt x="0" y="21600"/>
                </a:lnTo>
                <a:close/>
              </a:path>
              <a:path fill="lightenLess" w="145283" h="21600">
                <a:moveTo>
                  <a:pt x="0" y="0"/>
                </a:moveTo>
                <a:lnTo>
                  <a:pt x="145283" y="0"/>
                </a:lnTo>
                <a:lnTo>
                  <a:pt x="143883" y="1400"/>
                </a:lnTo>
                <a:lnTo>
                  <a:pt x="1400" y="1400"/>
                </a:lnTo>
                <a:close/>
              </a:path>
              <a:path fill="darken" w="145283" h="21600">
                <a:moveTo>
                  <a:pt x="145283" y="0"/>
                </a:moveTo>
                <a:lnTo>
                  <a:pt x="145283" y="21600"/>
                </a:lnTo>
                <a:lnTo>
                  <a:pt x="143883" y="20200"/>
                </a:lnTo>
                <a:lnTo>
                  <a:pt x="143883" y="1400"/>
                </a:lnTo>
                <a:close/>
              </a:path>
              <a:path fill="darkenLess" w="145283" h="21600">
                <a:moveTo>
                  <a:pt x="145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3883" y="20200"/>
                </a:lnTo>
                <a:close/>
              </a:path>
              <a:path fill="lighten" w="145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165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Kristen ITC"/>
              </a:rPr>
              <a:t>¡Vuelve a intentarl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1T22:31:18Z</dcterms:created>
  <dc:creator>KSD Kyrene School District</dc:creator>
  <dc:description/>
  <dc:language>en-US</dc:language>
  <cp:lastModifiedBy>Jacqueline Arroyo</cp:lastModifiedBy>
  <dcterms:modified xsi:type="dcterms:W3CDTF">2008-08-05T18:26:55Z</dcterms:modified>
  <cp:revision>31</cp:revision>
  <dc:subject/>
  <dc:title>Phonemic Awareness Assessments</dc:title>
</cp:coreProperties>
</file>